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9CAD-A2A3-4A7A-B8C0-0A0B3CC937B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7A56-062C-41C3-A4D7-68B3F91357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B3C-312E-46D4-BEBD-0754D529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288-9A42-42B4-B2F8-069F3EE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FF9-7E1E-4DDD-AD55-46651321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E68-FE11-4718-9E6D-A1129702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DEFB-9B7E-4460-9B56-26E1A58D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25A6-89EE-4B84-9493-7AFFC7D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783-847A-41D0-B37C-85807A5A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95CF-75DD-4E2D-A811-FFB8774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1EE-2EC7-4B98-AE6A-70FC998B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4143-FFE3-4E98-B266-71F6B7F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FDC-107E-45DB-B4CF-71D0D8D5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E40-00F4-4761-8834-CDCD8D27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A85-76A9-48C5-9CA1-07E32C9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386C-AEB4-487B-97F5-5E821F0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29B8-680A-4059-8B44-223FBAB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3CDE-D778-4613-8E2A-C8EEA3FE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BC07-6CDB-4DD3-ACA2-66A4662A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11DC-BDAD-4527-998A-F09F6532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469F-8BAC-495D-AC12-A5F4302D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E993-E5F0-4427-BA31-789AE80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19AD-3DEB-4A8E-AF70-FED0961A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475B-770D-44AD-81AC-ABB7BE35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F0C-E2C3-492F-A7D5-89A3A18C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F53B-52E4-458E-B13C-42F49B0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CFE1-1593-416A-BD83-06F98D1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2A1F-E68D-48B0-8CBE-743CD4D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BD98-88A5-43E2-BEFD-65FD5AB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FF27-4B4D-4DD9-A3DB-DAC5EA81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9F82-80B6-4397-82CE-D2F30BDA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DA78-9EC0-4806-A3D8-D1EAD351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1AF0-AA8A-4A50-A47D-B20CEE66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E74B-0072-487E-AD4C-806B9C9D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AAB5-B205-4F46-9060-1FEAFD7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E8E-D829-48C5-9169-204E32C4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78C9-030F-48C2-A43E-5E00ECC1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A14E-4747-4CFD-8AE6-DF0E2F0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2FCC-B118-498C-876F-8438A9E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1491-DC90-449E-B5B3-3C09313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6F19-9A05-40D5-BB1F-2A372C0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9D5C-1511-4C3C-AD56-9A26C64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F5D03-2E3B-4924-8E9E-C8DDC89B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0DF3-E7B2-4092-B9DF-7C71F361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46B1-1F65-4A15-AF6B-94AE193D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03B-0386-4924-99C1-0CC0057F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A19-675B-48CA-93F8-CD64B56A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454-ED11-4035-86DF-0681D8EF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3B6-5A3B-4AC5-ABE9-11FDA3D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9BF-A23B-4133-9390-8071EA3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8C45-A7A9-4ABF-8A90-A4574608175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E67-592A-4E70-A08A-01E6BF31C082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CD5E-3636-4FA1-BAAF-3CBC0944862D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4903-7905-4821-8CA9-A591DAF2BDAD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4" descr="лого.tif"/>
          <p:cNvPicPr/>
          <p:nvPr/>
        </p:nvPicPr>
        <p:blipFill>
          <a:blip r:embed="rId1"/>
          <a:stretch/>
        </p:blipFill>
        <p:spPr>
          <a:xfrm>
            <a:off x="642960" y="836640"/>
            <a:ext cx="3929040" cy="8161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611280" y="1773360"/>
            <a:ext cx="83199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ологические  рекомендации по оценке некультивируемых биологических ресурсов, относящихся к растительному и животному миру, по текущей рыночной стоим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контракт № 45-НР-2014/Кадастр-1 от 13.08.2014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М.А. Фоменко, к.г.н.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.А. Лошадкин, к.г.н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нститут «Кадастр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4CF9-9653-4F43-B4D6-DF272817CDC2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Недревесные продукты леса: метод оценки доходный 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  <a:ea typeface="Arial"/>
              </a:rPr>
              <a:t>(расчетная формула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5000"/>
            <a:ext cx="83628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недр.пр. =   (Пнедр.пр. *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.недр.пр.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недр.п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– ценность запасов недревесных продуктов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млн.руб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–  вид недревесного продукта лес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недр.п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вки платы за единицу объема живи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недревесных лесных ресурсов, пищев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лесных ресурсов и лекарственных растени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ыс.руб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г.недр.пр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годовой объем заготовки недревесны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дуктов, тыс.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ставка дисконтирования, принята 0,0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7C5-904C-49F6-922B-0E864C25FC8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12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333360" cy="48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3333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4" descr=""/>
          <p:cNvPicPr/>
          <p:nvPr/>
        </p:nvPicPr>
        <p:blipFill>
          <a:blip r:embed="rId1"/>
          <a:stretch/>
        </p:blipFill>
        <p:spPr>
          <a:xfrm>
            <a:off x="396720" y="476280"/>
            <a:ext cx="8302680" cy="1322280"/>
          </a:xfrm>
          <a:prstGeom prst="rect">
            <a:avLst/>
          </a:prstGeom>
          <a:ln w="0">
            <a:noFill/>
          </a:ln>
        </p:spPr>
      </p:pic>
      <p:sp>
        <p:nvSpPr>
          <p:cNvPr id="24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28BF-2529-432A-88D7-AE1C481F3102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47640" y="1733400"/>
          <a:ext cx="6264360" cy="4716720"/>
        </p:xfrm>
        <a:graphic>
          <a:graphicData uri="http://schemas.openxmlformats.org/drawingml/2006/table">
            <a:tbl>
              <a:tblPr/>
              <a:tblGrid>
                <a:gridCol w="5004000"/>
                <a:gridCol w="1260360"/>
              </a:tblGrid>
              <a:tr h="2721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ХОДНЫЕ Д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корректированная удельная ресурсная рента на начало 2012 года, руб./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корректированная удельная ресурсная рента на конец  2012 года, руб./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заготовки ресурсов, тыс.т./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3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авка дисконтир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ческие  показатели, тыс.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52,1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исчезнов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ъятие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3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ычная убыль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появление  ‑ обычный прирост 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3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страординарные потери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в классификации и прочие изменения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конец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52,1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ЧЕТНЫЕ ПОКАЗАТЕЛИ, 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 (в ценах на начало год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 (в ценах на конец год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9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операций с капиталом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других изменений в объеме активо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исчезнов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ъятие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ычная убыль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появление  ‑ обычный прирост 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страординарные потери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в классификации и прочие изменения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переоценк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инальная холдинговая прибыль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0,3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конец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9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Охотничьи ресурсы: метод оценки доходный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  <a:ea typeface="Arial"/>
              </a:rPr>
              <a:t>(расчетная формула)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ох.р.=   (Поб.ж.м. *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.ох.р.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д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ох.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ценность запасов охотничьих ресурсов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млн.руб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–  вид охотничьего ресурс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б.ж.м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ставки сбора за каждый объект животног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мира , тыс.руб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об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.ох.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годовой объем заготовки охотничьих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ресурсов, тыс.особ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ставка дисконтирования, принята 0,0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B55E-8402-4278-A6F2-1CC6C271749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12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333360" cy="48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3333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4" descr=""/>
          <p:cNvPicPr/>
          <p:nvPr/>
        </p:nvPicPr>
        <p:blipFill>
          <a:blip r:embed="rId1"/>
          <a:stretch/>
        </p:blipFill>
        <p:spPr>
          <a:xfrm>
            <a:off x="407880" y="401760"/>
            <a:ext cx="8510760" cy="1323720"/>
          </a:xfrm>
          <a:prstGeom prst="rect">
            <a:avLst/>
          </a:prstGeom>
          <a:ln w="0">
            <a:noFill/>
          </a:ln>
        </p:spPr>
      </p:pic>
      <p:sp>
        <p:nvSpPr>
          <p:cNvPr id="25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F0C-D707-418A-B9FF-37B8BBCCC445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19280" y="1557360"/>
          <a:ext cx="6337440" cy="4676760"/>
        </p:xfrm>
        <a:graphic>
          <a:graphicData uri="http://schemas.openxmlformats.org/drawingml/2006/table">
            <a:tbl>
              <a:tblPr/>
              <a:tblGrid>
                <a:gridCol w="5175360"/>
                <a:gridCol w="1162080"/>
              </a:tblGrid>
              <a:tr h="220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ХОДНЫЕ Д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корректированная удельная ресурсная рента на начало 2012 года, тыс.руб./особ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корректированная удельная ресурсная рента на конец  2012 года, тыс.руб./особ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добычи охотничьих животных, тыс.особей/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7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авка дисконтир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ческие показатели, тыс. особ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812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исчезнов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быча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7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ычная убыль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4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появление  ‑ обычное воспроизводство 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7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страординарные потери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5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в классификации и прочие изменения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62,1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конец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98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 grid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ЧЕТНЫЕ ПОКАЗАТЕЛИ, 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 (в ценах на начало год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94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 (в ценах на конец год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49,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операций с капиталом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других изменений в объеме активо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исчезнов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быча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44,2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ычная убыль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0,06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появление  ‑ обычное воспроизводство 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4,2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страординарные потери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0,0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в классификации и прочие изменения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91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переоценк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инальная холдинговая прибыль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544,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конец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40,7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308800" cy="13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3564000" y="1989000"/>
          <a:ext cx="5113440" cy="4186440"/>
        </p:xfrm>
        <a:graphic>
          <a:graphicData uri="http://schemas.openxmlformats.org/drawingml/2006/table">
            <a:tbl>
              <a:tblPr/>
              <a:tblGrid>
                <a:gridCol w="1006560"/>
                <a:gridCol w="261720"/>
                <a:gridCol w="911160"/>
                <a:gridCol w="524160"/>
                <a:gridCol w="522000"/>
                <a:gridCol w="917640"/>
                <a:gridCol w="522360"/>
                <a:gridCol w="447840"/>
              </a:tblGrid>
              <a:tr h="217800">
                <a:tc rowSpan="2"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ричин ослабления (усыхания) лесных насажд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 погибло лесов с начала года (нарастающим итогом, без учета проведенных рубок), 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, 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 погибло лесов с начала года (нарастающим итогом, без учета проведенных рубок), м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gridSpan="2"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, м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вой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вердо-лист-венны 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вой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вердо-лист-в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21780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21780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есные пожар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748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.ч. текущего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748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вреждение насекомым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63684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годные условия и почвенно-климатические фак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21780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лезни лес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748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вреждение дикими животным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748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нтропогенные фак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7480"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патогенные фак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0" rIns="0" tIns="38880" bIns="38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</a:tbl>
          </a:graphicData>
        </a:graphic>
      </p:graphicFrame>
      <p:sp>
        <p:nvSpPr>
          <p:cNvPr id="256" name="Rectangle 2"/>
          <p:cNvSpPr/>
          <p:nvPr/>
        </p:nvSpPr>
        <p:spPr>
          <a:xfrm>
            <a:off x="324000" y="2339640"/>
            <a:ext cx="302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нести изменения в форму 3.5 ГЛР «Сведения о повреждении и гибели лесных насаждений»: учитывать показатели не только в гектарах (существующее положение, графы 7, 8 и 9), но и в кубических метрах (графы 10, 11, 12  которые предлагается добавить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Цель: более корректное и полное отражение показателей «Обычная убыль» и «Экстраординарные потери» ресурсов древеси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7"/>
          <p:cNvSpPr/>
          <p:nvPr/>
        </p:nvSpPr>
        <p:spPr>
          <a:xfrm>
            <a:off x="468360" y="1844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ревес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66DE-B63B-46EA-A01B-36DBD8CDC7D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Предложения по развитию и совершенствованию информационной базы для оценки НБР в составе СНС 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  <a:ea typeface="Arial"/>
              </a:rPr>
              <a:t>(продолжение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Определить содержание показателя «Изменения в классификации и прочие изменения» (в составе счета других изменений в объеме активов) и ввести данный показатель в имеющиеся формы отчетности в сфере лесных ресурс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Осуществлять оценку текущей рыночной стоимости ресурсов древесины в перспективе не только по древесине в целом, но и по отдельным породам, поскольку рентные доходы от малоценной и высокоценной древесины значительно различаютс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ь государственный лесной реестр формой, содержащей сведения о доходах лесного хозяйства (по аналогии с формой 16-ОИП «Сведения о доходах лесного хозяйства и их распределении по получателям»), так как для повышения достоверности данных важным является использование показателей из одного информационного источника, использующего единые понятия, статистическую методологию и инструментарий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C76-F62C-449A-AC39-B9F182923D3B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Предложения по развитию и совершенствованию информационной базы для оценки НБР в составе СН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древесные продукты ле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. Внести дополнения в форму 2.3 ГЛР «Использование лесов гражданами и юридическими лицами» в части введения весовых показателей (кг, тонны) относительно объема использования недревесных продуктов леса графы 17 и 18, наряду с единицами измерения площади (га). Кроме того, графу 18 «Заготовка пищевых лесных ресурсов и сбор лекарственных растений» разделить на две графы «Заготовка пищевых лесных ресурсов» и «Сбор лекарственных растений» для учета конкретных видов ресурсов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2. Дополнить государственный лесной реестр формой, содержащей сведения о доходах лесного хозяйства (по аналогии с формой 16-ОИП «Сведения о доходах лесного хозяйства и их распределении по получателям»), так как для повышения достоверности данных важным является использование показателей из одного информационного источника, использующего единые понятия, статистическую методологию и инструментарий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3. Обеспечить получение информации об аукционах по продаже права на заключение договора аренды лесного участка по форме 13-ОИП «Сведения об аукционах по продаже права на заключение договора аренды лесного участка» и усилить контроль со стороны Минприроды России (Федеральное агентство лесного хозяйства) за своевременным и качественным заполнением отчетности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4. В целом перед системой Рослесхоза стоит актуальная задача налаживания первичного учета, организации обобщения данных и представления качественной сводной информации по ряду показателей, характеризующих использование недревесных продуктов леса в физическом и стоимостном выражении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A564-0B19-4132-AAE1-A88A2A5407DA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Предложения по развитию и совершенствованию информационной базы для оценки НБР в составе СН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хотничьи ресурс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ь содержание показателя «Изменения в классификации и прочие изменения», входящего в счет других изменений в объеме активов, и ввести его в имеющиеся формы отчетности в сфере охотничьих ресурсов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Ввести механизм ежегодной индексации ставок сбора за пользование объектами животного мира с внесением соответствующих изменений в ФЗ о федеральном бюджете (по аналогии с индексацией ставок платы за единицу объема лесных ресурсов и ставок платы за единицу площади лесного участка, находящегося в федеральной собственности, установленных Правительством РФ в 2007 году), поскольку данные ставки были введены ФЗ от 11.11.2003 № 148-ФЗ и остаются неизменными до настоящего времени. При сложившейся структуре формирования и сбора статистической и административной информации только использование ставок сбора за пользование объектами животного мира позволяет наиболее корректно выполнять оценки в стоимостном выражении по видам животных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BCEC-172B-4E6F-BD93-C09763F44373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Предложения по межведомственному обмену и согласованию потоков информац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Межведомственную координацию целесообразно налаживать путем создания межведомственных рабочих групп (по лесным ресурсам и охотничьим ресурсам), как коллегиальных совещательных  органов, в целях изучения вопросов в рассматриваемой сфере и подготовки проектов соответствующих решений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2. Упорядочение функций органов исполнительной власти на федеральном и региональном уровнях путем законодательного определения полномочий и функций, а также детальное рассмотрение статистических и административных показателей с их привязкой к формам отчетности и на этой основе исключения практики дублирования показателей статистической и административной информации в целях снижения нагрузки на респондентов, а также исключения расхождения данных по одним и тем же показателям по объективным и субъективным причинам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3. Повышение уровня дисциплинарной, гражданско-правовой, административной или уголовной ответственности должностных лиц в соответствии с законодательством Российской Федерации за непредставление статистических и административных данных и предоставление неверных сведений с точки зрения полноты, достоверности, своевременности и доступност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763-318F-4CAB-A913-8341CD93E8FB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9"/>
          <p:cNvSpPr/>
          <p:nvPr/>
        </p:nvSpPr>
        <p:spPr>
          <a:xfrm>
            <a:off x="395280" y="2276640"/>
            <a:ext cx="853128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Благодарю за внимание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r>
              <a:rPr b="1" lang="en-US" sz="2000" spc="-1" strike="noStrike">
                <a:solidFill>
                  <a:srgbClr val="089ca3"/>
                </a:solidFill>
                <a:latin typeface="Constantia"/>
              </a:rPr>
              <a:t>E-mail</a:t>
            </a:r>
            <a:r>
              <a:rPr b="1" lang="ru-RU" sz="2000" spc="-1" strike="noStrike">
                <a:solidFill>
                  <a:srgbClr val="089ca3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89ca3"/>
                </a:solidFill>
                <a:latin typeface="Constantia"/>
              </a:rPr>
              <a:t> info@nipik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r>
              <a:rPr b="1" lang="en-US" sz="2000" spc="-1" strike="noStrike">
                <a:solidFill>
                  <a:srgbClr val="089ca3"/>
                </a:solidFill>
                <a:latin typeface="Constantia"/>
              </a:rPr>
              <a:t>http://www.nipik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r>
              <a:rPr b="1" lang="ru-RU" sz="2000" spc="-1" strike="noStrike">
                <a:solidFill>
                  <a:srgbClr val="089ca3"/>
                </a:solidFill>
                <a:latin typeface="Constantia"/>
              </a:rPr>
              <a:t>150043, г. Ярославл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r>
              <a:rPr b="1" lang="ru-RU" sz="2000" spc="-1" strike="noStrike">
                <a:solidFill>
                  <a:srgbClr val="089ca3"/>
                </a:solidFill>
                <a:latin typeface="Constantia"/>
              </a:rPr>
              <a:t>ул. Р.Люксембург, 2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r>
              <a:rPr b="1" lang="ru-RU" sz="2000" spc="-1" strike="noStrike">
                <a:solidFill>
                  <a:srgbClr val="089ca3"/>
                </a:solidFill>
                <a:latin typeface="Constantia"/>
              </a:rPr>
              <a:t>тел./факс 75-76-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5040" indent="-280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2525760" y="1052640"/>
          <a:ext cx="9666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1052640"/>
                    <a:ext cx="9666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4" name="Группа 17"/>
          <p:cNvGrpSpPr/>
          <p:nvPr/>
        </p:nvGrpSpPr>
        <p:grpSpPr>
          <a:xfrm>
            <a:off x="3564000" y="1052640"/>
            <a:ext cx="3714840" cy="956880"/>
            <a:chOff x="3564000" y="1052640"/>
            <a:chExt cx="3714840" cy="956880"/>
          </a:xfrm>
        </p:grpSpPr>
        <p:sp>
          <p:nvSpPr>
            <p:cNvPr id="275" name="Rectangle 10"/>
            <p:cNvSpPr/>
            <p:nvPr/>
          </p:nvSpPr>
          <p:spPr>
            <a:xfrm>
              <a:off x="3564000" y="1052640"/>
              <a:ext cx="345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4211d"/>
                  </a:solidFill>
                  <a:latin typeface="Tahoma"/>
                </a:rPr>
                <a:t>НАУЧНО-ИССЛЕДОВАТЕЛЬСКИЙ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564000" y="1266840"/>
              <a:ext cx="371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4211d"/>
                  </a:solidFill>
                  <a:latin typeface="Tahoma"/>
                </a:rPr>
                <a:t>ПРОЕКТНЫЙ ИНСТИТУТ    КАДАСТР»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5992920" y="1266840"/>
              <a:ext cx="13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4211d"/>
                  </a:solidFill>
                  <a:latin typeface="Tahoma"/>
                </a:rPr>
                <a:t>«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3628440" y="1552680"/>
              <a:ext cx="234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4211d"/>
                  </a:solidFill>
                  <a:latin typeface="Tahoma"/>
                </a:rPr>
                <a:t>(ИНСТИТУТ «КАДАСТР»)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921200" y="155268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Номер слайда 9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379B-E7F7-4582-8172-9069AB6E15C6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Основание для выполнения работ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оряжение Правительства РФ от 12.10.2012 № 1911-р «О внесении изменений в Федеральный план статистических работ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аз Росстата от 08.07.2013 г. № 274 «Об организационном плане мероприятий по реализации работ, предусмотренных распоряжением Правительства РФ от 12.10.2012 № 1911-р» (мероприятие 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аз Росстата от 09.12.2013  № 465 «Об утверждении Плана научно-исследовательских работ Росстата на 2014 год» (работа № 2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C4CF-4779-4F83-85F8-C07095953556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Arial"/>
                <a:ea typeface="Arial"/>
              </a:rPr>
              <a:t>К оценке приняты некультивируемые биологические ресурсы (НБР) в соответствии с определением экономических активов в составе СНС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1700280"/>
          <a:ext cx="8229600" cy="3840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евеси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бразуется в результате рубки лесных насаждений (приказ Рослесхоза от 15.02.2012 г. № 54 «Об утверждении форм ведения государственного лесного реестра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ревесные продукты лес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вица, пни, береста; еловая, пихтовая, сосновая лапы; ели или деревья других хвойных пород для новогодних праздников и др., пищевые лесные ресурсы (дикорастущие плоды, ягоды, орехи, грибы и др.), лекарственные растения (ст. 32, 34 Лесной кодекс РФ от 04.12.2006 № 200-Ф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тничьи ресурс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—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пытные и пушные животные, медведи, птицы, охота на которых возможна в целях, установленных российским законодательством (ст.11, ФЗ от 24.07.2009 № 209-ФЗ «Об охоте и о сохранении охотничьих ресурсов и о внесении изменений в отдельные законодательные акты РФ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sp>
        <p:nvSpPr>
          <p:cNvPr id="21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7FE4-4FA4-4A6B-97F8-43A57C74D725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302680" cy="9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042920" y="1735200"/>
          <a:ext cx="7140600" cy="3456000"/>
        </p:xfrm>
        <a:graphic>
          <a:graphicData uri="http://schemas.openxmlformats.org/drawingml/2006/table">
            <a:tbl>
              <a:tblPr/>
              <a:tblGrid>
                <a:gridCol w="771480"/>
                <a:gridCol w="909720"/>
                <a:gridCol w="986040"/>
                <a:gridCol w="833400"/>
                <a:gridCol w="758520"/>
                <a:gridCol w="833760"/>
                <a:gridCol w="834840"/>
                <a:gridCol w="1212840"/>
              </a:tblGrid>
              <a:tr h="10825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озрастная структу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оимость леса на корню за м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нимаемая территория, 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древесины, достигшей возраста рубки, м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едний возраст возрастной групп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 службы,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сконтная ставка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оимость возрастной группы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£ мл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-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2,1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-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5,7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-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5,6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-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4,6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1-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4,8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6,2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 gridSpan="7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рная оценка запа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Rectangle 1"/>
          <p:cNvSpPr/>
          <p:nvPr/>
        </p:nvSpPr>
        <p:spPr>
          <a:xfrm>
            <a:off x="755640" y="135756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Денежная оценка древесины в Великобритании, 2011 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971640" y="530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Calibri"/>
              </a:rPr>
              <a:t>Источник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Calibri"/>
              </a:rPr>
              <a:t>: «Monetary Valuation of UK Timber Resources» Authors: Jawed Khan, Peter Greene and Kah Wei Hoo; Office for National Statistics, 2013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7BD-3698-48E7-A4F6-7397CA4A6F6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3026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351640" cy="4608360"/>
        </p:xfrm>
        <a:graphic>
          <a:graphicData uri="http://schemas.openxmlformats.org/drawingml/2006/table">
            <a:tbl>
              <a:tblPr/>
              <a:tblGrid>
                <a:gridCol w="1727280"/>
                <a:gridCol w="2592360"/>
                <a:gridCol w="4032000"/>
              </a:tblGrid>
              <a:tr h="31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Н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ион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евес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ный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 валовой проду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 восстановительной сто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ковская, Ярославская, Томская, Рязанская, Калужская области, Красноярский край, РСО-Ал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ронежский запове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ПНП «Куршская коса» (Калининградская област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ый парк Берендеевка (г. Костро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ПЗ Костомукшский (Республика Карел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чинский национальный пар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ый парк Быстринский (Камчатский кра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14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ревесные продукты л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ный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 валовой проду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ковская, Ярославская, Томская, Рязанская, Калужская области, Красноярский край, РСО-Ал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нкинский национальный парк (г. Улан-Уд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ПНП «Куршская коса» (Калининградская област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ПЗ Костомукшский (Республика Карел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чинский национальный пар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ый парк Быстринский (Камчатский кра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кты животного мира  (в т.ч. охотничьи ресурсы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ный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 транспортно-путевых затр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ковская, Ярославская, Томская, Рязанская области, Красноярский край, РСО-Ал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нкинский национальный парк (г. Улан-Уд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ПЗ Костомукшский (Республика Карел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чинский национальный пар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ый парк Быстринский (Камчатский кра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sp>
        <p:nvSpPr>
          <p:cNvPr id="21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BB86-C269-4E9C-80F1-662487DB5211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Нормативная база оценки НБР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557360"/>
          <a:ext cx="8496360" cy="4570560"/>
        </p:xfrm>
        <a:graphic>
          <a:graphicData uri="http://schemas.openxmlformats.org/drawingml/2006/table">
            <a:tbl>
              <a:tblPr/>
              <a:tblGrid>
                <a:gridCol w="1674720"/>
                <a:gridCol w="2236680"/>
                <a:gridCol w="2208240"/>
                <a:gridCol w="237672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еве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ревесные продукты л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тничьи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70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конода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сной кодекс РФ от 04.12.2006 № 200-Ф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сной кодекс РФ от 04.12.2006 № 200-Ф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З «Об охоте и о сохранении охотничьих ресурс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о внесении изменений в отдельные законодательные акты РФ от 24.07.2009 № 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1228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нование для поль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говора аренды лесных участков, договора купли-продажи лесных наса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говора аренды лес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ешение на добычу охотничьи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1057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платеж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а по итогам аукци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ки платы за единицу объема лесн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ки сбора за пользование объектами животного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039-9714-425F-8241-FDF4A99216CD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803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395280" y="1557360"/>
          <a:ext cx="8569440" cy="4545000"/>
        </p:xfrm>
        <a:graphic>
          <a:graphicData uri="http://schemas.openxmlformats.org/drawingml/2006/table">
            <a:tbl>
              <a:tblPr/>
              <a:tblGrid>
                <a:gridCol w="3103560"/>
                <a:gridCol w="2895480"/>
                <a:gridCol w="257040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еве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ревесные продукты л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тничьи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ы государственного лесного реестра -1.8 ГЛР, 2.2 ГЛР, 2.4 ГЛР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 ГЛР , 3.3 ГЛ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а государственного лесного реестра  2.3 ГЛ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ы государственного охотхозяйственного реестр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1.1 (ЧМ), 1.2 (ЧП), 1.4 (ГР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 (ДК), 4.2 (ДП), 4.3 (ДТП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 (Д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179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ы отчетности органов государственной власти субъектов РФ об осуществлении переданных полномочий – 13-ОИП, 14-О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ки платы за единицу объем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живицы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недревесных лесных ресурс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пищевых лесных ресурсов и лекарственных растений  (Постановление Правительства РФ от 22.05.2007 № 3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ки сбора за пользование объектами животного мира  (ст. 333.3 Налоговый Кодекс РФ (часть вторая) от 05.08. 2000 № 117-Ф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ый ресурс ЕМИ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спертные д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ый ресурс ЕМИ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  <p:sp>
        <p:nvSpPr>
          <p:cNvPr id="224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1362-7051-4CFA-8112-D49567E9E87A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Древесина: метод оценки доходный 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  <a:ea typeface="Arial"/>
              </a:rPr>
              <a:t>(расчетная формула)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др. =  Ац.др. *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.др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д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д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ценность запасов древесины, млн.руб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ц.др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цена по итогам аукци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тыс.руб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б.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.д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годовой объем заготовки древесины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тыс.куб.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  ставка дисконтирования, принята 0,0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CE98-BCB2-4962-8864-C505648090DD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4" descr=""/>
          <p:cNvPicPr/>
          <p:nvPr/>
        </p:nvPicPr>
        <p:blipFill>
          <a:blip r:embed="rId1"/>
          <a:stretch/>
        </p:blipFill>
        <p:spPr>
          <a:xfrm>
            <a:off x="433440" y="189000"/>
            <a:ext cx="8369280" cy="1261800"/>
          </a:xfrm>
          <a:prstGeom prst="rect">
            <a:avLst/>
          </a:prstGeom>
          <a:ln w="0">
            <a:noFill/>
          </a:ln>
        </p:spPr>
      </p:pic>
      <p:sp>
        <p:nvSpPr>
          <p:cNvPr id="2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BAE-E970-49BA-9BBC-05EDA608B15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1397160"/>
          <a:ext cx="6048360" cy="4870440"/>
        </p:xfrm>
        <a:graphic>
          <a:graphicData uri="http://schemas.openxmlformats.org/drawingml/2006/table">
            <a:tbl>
              <a:tblPr/>
              <a:tblGrid>
                <a:gridCol w="4675320"/>
                <a:gridCol w="1373040"/>
              </a:tblGrid>
              <a:tr h="28728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ХОДНЫЕ Д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корректированная удельная ресурсная рента на начало 2012 года, руб./куб.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,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корректированная удельная ресурсная рента на конец 2012 года, руб./куб.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,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заготовки древесины, млн.куб.м./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5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циальная ставка дисконтир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ческие показатели, млн.куб.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99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исчезнов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ъятие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5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ычная убыль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,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появление  ‑ обычный прирост 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 019,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страординарные потери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4,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в классификации и прочие изменения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‑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0,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конец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992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ЧЕТНЫЕ ПОКАЗАТЕЛИ, 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 (в ценах на начало год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21 513,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начало года (в ценах на конец год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5 188,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операций с капитал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1731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других изменений в объеме активо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исчезнов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ъятие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–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674,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ычная убыль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8985,4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ономическое появление  ‑ обычный прирост 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1482,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кстраординарные потери (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8375,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в классификации и прочие изменения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43107,7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 переоценк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15876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инальная холдинговая прибыль (+/-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6325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пасы на конец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1527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5:29:19Z</dcterms:created>
  <dc:creator>nastya_m</dc:creator>
  <dc:description/>
  <dc:language>en-US</dc:language>
  <cp:lastModifiedBy>Владимир Евгеньевич Сычев</cp:lastModifiedBy>
  <dcterms:modified xsi:type="dcterms:W3CDTF">2015-03-16T10:45:57Z</dcterms:modified>
  <cp:revision>258</cp:revision>
  <dc:subject/>
  <dc:title>О стратегии развития в Российской Федерации системы комплексного эколого-экономического учета, как основы повышения капитализации природных ресурсов</dc:title>
</cp:coreProperties>
</file>